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43EB-C6D0-4E0B-96C5-CA70589AAE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F845-2B51-4514-927E-5D2D67BF67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F88A-806E-42E6-8B0B-3CDE8B2FA8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B06E-DBB2-4397-A81A-39E703A4A4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365D-8EBC-4D33-95BA-69CC9A11E6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7200-5974-4A89-96F6-A878767BE1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A6EE-8E26-43C7-8DE5-9763693766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9597-BCA1-47BF-B7D5-D5C173371B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219-ED91-4311-9D13-EFFA37EE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233-075D-4E06-B471-50C49E18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EA4-0A17-4844-AD0A-2AE7EF73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2482-EDB7-44C4-8D2D-38939C96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485-86E5-4373-AEA2-4B00D782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9957-88DD-48A7-9798-82863AA6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0994-6A7E-4326-AFF6-3A07AE15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149-A03A-4255-9B7C-0F18BA23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870C-27AD-4F3A-958D-6FCC6EBF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3C4-CFCE-499F-8827-9E4922EE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DF6-8648-4D86-B605-F63BF700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A98-18EC-4809-9079-7D139588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Phase Candidature - Maîtrise d'oeuvre EHPA "Les Camélias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0287-2FF6-49B8-A4BC-A1B0C8367F67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6"/>
          <p:cNvSpPr/>
          <p:nvPr/>
        </p:nvSpPr>
        <p:spPr>
          <a:xfrm>
            <a:off x="1590840" y="2781360"/>
            <a:ext cx="5603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 DU MANDA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2"/>
          <p:cNvSpPr/>
          <p:nvPr/>
        </p:nvSpPr>
        <p:spPr>
          <a:xfrm>
            <a:off x="474840" y="4149720"/>
            <a:ext cx="8194320" cy="52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558ed5"/>
                </a:solidFill>
                <a:uFillTx/>
                <a:latin typeface="Verdana"/>
                <a:ea typeface="Verdana"/>
              </a:rPr>
              <a:t>Présentation de 6 réalisations de l’équipe de maîtrise d’oeuvre que le mandataire souhaite présenter pour valoriser sa candid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1"/>
          <p:cNvSpPr/>
          <p:nvPr/>
        </p:nvSpPr>
        <p:spPr>
          <a:xfrm>
            <a:off x="395280" y="150480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NEXE 3 – Réfé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’un bâtiment destiné à l’activité des LPL à Haut-Mau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 3" descr="Une image contenant texte, logo, cercle, capture d’écran&#10;&#10;Le contenu généré par l’IA peut être incorrect."/>
          <p:cNvPicPr/>
          <p:nvPr/>
        </p:nvPicPr>
        <p:blipFill>
          <a:blip r:embed="rId1"/>
          <a:stretch/>
        </p:blipFill>
        <p:spPr>
          <a:xfrm>
            <a:off x="474840" y="333360"/>
            <a:ext cx="223020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Image 4" descr=""/>
          <p:cNvPicPr/>
          <p:nvPr/>
        </p:nvPicPr>
        <p:blipFill>
          <a:blip r:embed="rId2"/>
          <a:srcRect l="0" t="0" r="0" b="43161"/>
          <a:stretch/>
        </p:blipFill>
        <p:spPr>
          <a:xfrm>
            <a:off x="6946920" y="476280"/>
            <a:ext cx="1722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661356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627280" y="6659640"/>
            <a:ext cx="532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AITRISE D’ŒUVRE –  WINNIPE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50840" y="1503360"/>
            <a:ext cx="4497480" cy="5370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hoto(s) de la réfé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6"/>
          <p:cNvSpPr/>
          <p:nvPr/>
        </p:nvSpPr>
        <p:spPr>
          <a:xfrm>
            <a:off x="4572000" y="154080"/>
            <a:ext cx="44211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Nom du titulaire de la référ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7"/>
          <p:cNvSpPr/>
          <p:nvPr/>
        </p:nvSpPr>
        <p:spPr>
          <a:xfrm>
            <a:off x="4722840" y="2419200"/>
            <a:ext cx="4282920" cy="3884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utre(s) photo(s) de la réfé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0840" y="523800"/>
          <a:ext cx="8893080" cy="960480"/>
        </p:xfrm>
        <a:graphic>
          <a:graphicData uri="http://schemas.openxmlformats.org/drawingml/2006/table">
            <a:tbl>
              <a:tblPr/>
              <a:tblGrid>
                <a:gridCol w="1326960"/>
                <a:gridCol w="1219320"/>
                <a:gridCol w="1068480"/>
                <a:gridCol w="933480"/>
                <a:gridCol w="1871640"/>
                <a:gridCol w="1361880"/>
                <a:gridCol w="111132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ître d’ouv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lle et dépar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s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rf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ntant des travaux € 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é du bâti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e de Livraison ou niveau d’avanc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9" name="ZoneTexte 4"/>
          <p:cNvSpPr/>
          <p:nvPr/>
        </p:nvSpPr>
        <p:spPr>
          <a:xfrm>
            <a:off x="4734000" y="1503360"/>
            <a:ext cx="4282920" cy="840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Définition du programme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150840" y="130320"/>
            <a:ext cx="4311720" cy="30708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EFERENC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661356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627280" y="6659640"/>
            <a:ext cx="532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AITRISE D’ŒUVRE –  WINNIPE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50840" y="1503360"/>
            <a:ext cx="4497480" cy="5370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hoto(s) de la réfé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6"/>
          <p:cNvSpPr/>
          <p:nvPr/>
        </p:nvSpPr>
        <p:spPr>
          <a:xfrm>
            <a:off x="4572000" y="154080"/>
            <a:ext cx="44211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Nom du titulaire de la référ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7"/>
          <p:cNvSpPr/>
          <p:nvPr/>
        </p:nvSpPr>
        <p:spPr>
          <a:xfrm>
            <a:off x="4722840" y="2419200"/>
            <a:ext cx="4282920" cy="3884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utre(s) photo(s) de la réfé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0840" y="523800"/>
          <a:ext cx="8893080" cy="960480"/>
        </p:xfrm>
        <a:graphic>
          <a:graphicData uri="http://schemas.openxmlformats.org/drawingml/2006/table">
            <a:tbl>
              <a:tblPr/>
              <a:tblGrid>
                <a:gridCol w="1326960"/>
                <a:gridCol w="1219320"/>
                <a:gridCol w="1068480"/>
                <a:gridCol w="933480"/>
                <a:gridCol w="1871640"/>
                <a:gridCol w="1361880"/>
                <a:gridCol w="111132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ître d’ouv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lle et dépar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s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rf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ntant des travaux € 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é du bâti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e de Livraison ou niveau d’avanc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7" name="ZoneTexte 4"/>
          <p:cNvSpPr/>
          <p:nvPr/>
        </p:nvSpPr>
        <p:spPr>
          <a:xfrm>
            <a:off x="4734000" y="1503360"/>
            <a:ext cx="4282920" cy="840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Définition du programme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6"/>
          <p:cNvSpPr/>
          <p:nvPr/>
        </p:nvSpPr>
        <p:spPr>
          <a:xfrm>
            <a:off x="150840" y="130320"/>
            <a:ext cx="4311720" cy="30708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EFERENC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661356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627280" y="6659640"/>
            <a:ext cx="532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AITRISE D’ŒUVRE –  WINNIPE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150840" y="1503360"/>
            <a:ext cx="4497480" cy="5370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hoto(s) de la réfé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6"/>
          <p:cNvSpPr/>
          <p:nvPr/>
        </p:nvSpPr>
        <p:spPr>
          <a:xfrm>
            <a:off x="4572000" y="154080"/>
            <a:ext cx="44211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Nom du titulaire de la référ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7"/>
          <p:cNvSpPr/>
          <p:nvPr/>
        </p:nvSpPr>
        <p:spPr>
          <a:xfrm>
            <a:off x="4722840" y="2419200"/>
            <a:ext cx="4282920" cy="3884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utre(s) photo(s) de la réfé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0840" y="523800"/>
          <a:ext cx="8893080" cy="960480"/>
        </p:xfrm>
        <a:graphic>
          <a:graphicData uri="http://schemas.openxmlformats.org/drawingml/2006/table">
            <a:tbl>
              <a:tblPr/>
              <a:tblGrid>
                <a:gridCol w="1326960"/>
                <a:gridCol w="1219320"/>
                <a:gridCol w="1068480"/>
                <a:gridCol w="933480"/>
                <a:gridCol w="1871640"/>
                <a:gridCol w="1361880"/>
                <a:gridCol w="111132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ître d’ouv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lle et dépar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s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rf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ntant des travaux € 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é du bâti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e de Livraison ou niveau d’avanc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5" name="ZoneTexte 4"/>
          <p:cNvSpPr/>
          <p:nvPr/>
        </p:nvSpPr>
        <p:spPr>
          <a:xfrm>
            <a:off x="4734000" y="1503360"/>
            <a:ext cx="4282920" cy="840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Définition du programme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6"/>
          <p:cNvSpPr/>
          <p:nvPr/>
        </p:nvSpPr>
        <p:spPr>
          <a:xfrm>
            <a:off x="150840" y="130320"/>
            <a:ext cx="4311720" cy="30708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EFERENC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661356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627280" y="6659640"/>
            <a:ext cx="532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AITRISE D’ŒUVRE –  WINNIPE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50840" y="1503360"/>
            <a:ext cx="4497480" cy="5370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hoto(s) de la réfé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6"/>
          <p:cNvSpPr/>
          <p:nvPr/>
        </p:nvSpPr>
        <p:spPr>
          <a:xfrm>
            <a:off x="4572000" y="154080"/>
            <a:ext cx="44211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Nom du titulaire de la référ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7"/>
          <p:cNvSpPr/>
          <p:nvPr/>
        </p:nvSpPr>
        <p:spPr>
          <a:xfrm>
            <a:off x="4722840" y="2419200"/>
            <a:ext cx="4282920" cy="3884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utre(s) photo(s) de la réfé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50840" y="523800"/>
          <a:ext cx="8893080" cy="960480"/>
        </p:xfrm>
        <a:graphic>
          <a:graphicData uri="http://schemas.openxmlformats.org/drawingml/2006/table">
            <a:tbl>
              <a:tblPr/>
              <a:tblGrid>
                <a:gridCol w="1326960"/>
                <a:gridCol w="1219320"/>
                <a:gridCol w="1068480"/>
                <a:gridCol w="933480"/>
                <a:gridCol w="1871640"/>
                <a:gridCol w="1361880"/>
                <a:gridCol w="111132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ître d’ouv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lle et dépar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s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rf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ntant des travaux € 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é du bâti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e de Livraison ou niveau d’avanc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3" name="ZoneTexte 4"/>
          <p:cNvSpPr/>
          <p:nvPr/>
        </p:nvSpPr>
        <p:spPr>
          <a:xfrm>
            <a:off x="4734000" y="1503360"/>
            <a:ext cx="4282920" cy="840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Définition du programme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150840" y="130320"/>
            <a:ext cx="4311720" cy="30708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EFERENC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661356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627280" y="6659640"/>
            <a:ext cx="532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AITRISE D’ŒUVRE –  WINNIPE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50840" y="1503360"/>
            <a:ext cx="4497480" cy="5370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hoto(s) de la réfé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6"/>
          <p:cNvSpPr/>
          <p:nvPr/>
        </p:nvSpPr>
        <p:spPr>
          <a:xfrm>
            <a:off x="4572000" y="154080"/>
            <a:ext cx="44211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Nom du titulaire de la référ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7"/>
          <p:cNvSpPr/>
          <p:nvPr/>
        </p:nvSpPr>
        <p:spPr>
          <a:xfrm>
            <a:off x="4722840" y="2419200"/>
            <a:ext cx="4282920" cy="3884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utre(s) photo(s) de la réfé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0840" y="523800"/>
          <a:ext cx="8893080" cy="960480"/>
        </p:xfrm>
        <a:graphic>
          <a:graphicData uri="http://schemas.openxmlformats.org/drawingml/2006/table">
            <a:tbl>
              <a:tblPr/>
              <a:tblGrid>
                <a:gridCol w="1326960"/>
                <a:gridCol w="1219320"/>
                <a:gridCol w="1068480"/>
                <a:gridCol w="933480"/>
                <a:gridCol w="1871640"/>
                <a:gridCol w="1361880"/>
                <a:gridCol w="111132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ître d’ouv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lle et dépar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s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rf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ntant des travaux € 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é du bâti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e de Livraison ou niveau d’avanc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1" name="ZoneTexte 4"/>
          <p:cNvSpPr/>
          <p:nvPr/>
        </p:nvSpPr>
        <p:spPr>
          <a:xfrm>
            <a:off x="4734000" y="1503360"/>
            <a:ext cx="4282920" cy="840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Définition du programme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6"/>
          <p:cNvSpPr/>
          <p:nvPr/>
        </p:nvSpPr>
        <p:spPr>
          <a:xfrm>
            <a:off x="150840" y="130320"/>
            <a:ext cx="4311720" cy="30708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EFERENC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661356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627280" y="6659640"/>
            <a:ext cx="532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AITRISE D’ŒUVRE –  WINNIPE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0840" y="1503360"/>
            <a:ext cx="4497480" cy="5370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hoto(s) de la réfé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6"/>
          <p:cNvSpPr/>
          <p:nvPr/>
        </p:nvSpPr>
        <p:spPr>
          <a:xfrm>
            <a:off x="4572000" y="154080"/>
            <a:ext cx="44211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Nom du titulaire de la référ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7"/>
          <p:cNvSpPr/>
          <p:nvPr/>
        </p:nvSpPr>
        <p:spPr>
          <a:xfrm>
            <a:off x="4722840" y="2419200"/>
            <a:ext cx="4282920" cy="3884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utre(s) photo(s) de la réfé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0840" y="523800"/>
          <a:ext cx="8893080" cy="960480"/>
        </p:xfrm>
        <a:graphic>
          <a:graphicData uri="http://schemas.openxmlformats.org/drawingml/2006/table">
            <a:tbl>
              <a:tblPr/>
              <a:tblGrid>
                <a:gridCol w="1326960"/>
                <a:gridCol w="1219320"/>
                <a:gridCol w="1068480"/>
                <a:gridCol w="933480"/>
                <a:gridCol w="1871640"/>
                <a:gridCol w="1361880"/>
                <a:gridCol w="111132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ître d’ouv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lle et dépar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s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rf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ntant des travaux € 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é du bâti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e de Livraison ou niveau d’avanc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9" name="ZoneTexte 4"/>
          <p:cNvSpPr/>
          <p:nvPr/>
        </p:nvSpPr>
        <p:spPr>
          <a:xfrm>
            <a:off x="4734000" y="1503360"/>
            <a:ext cx="4282920" cy="840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Définition du programme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6"/>
          <p:cNvSpPr/>
          <p:nvPr/>
        </p:nvSpPr>
        <p:spPr>
          <a:xfrm>
            <a:off x="150840" y="130320"/>
            <a:ext cx="4311720" cy="30708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EFERENC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09:02:58Z</dcterms:created>
  <dc:creator>NH</dc:creator>
  <dc:description/>
  <dc:language>en-US</dc:language>
  <cp:lastModifiedBy>Carine POLESE</cp:lastModifiedBy>
  <cp:lastPrinted>2014-09-23T12:43:07Z</cp:lastPrinted>
  <dcterms:modified xsi:type="dcterms:W3CDTF">2026-02-09T10:34:12Z</dcterms:modified>
  <cp:revision>129</cp:revision>
  <dc:subject/>
  <dc:title>Comité d’engagement ilot 12 – Zac Bottière Chênaie DHRU</dc:title>
</cp:coreProperties>
</file>